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D256-0693-4C19-B759-933A4B0B9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F21A-4CDE-431B-AA9E-D2DE250B9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CE98-B766-4A5A-8189-62534AC2C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BA0C-A97D-4E77-AA9E-ACC1C7241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8DB7-8315-4133-B4E4-7AA4AD71B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C7B1-4E2E-4656-9EB0-775172ECF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E26D-A2D3-427B-8AB9-E1A3707F7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4FC5-9C81-4CDE-A627-6243DD11A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19D5-3909-4DAE-AAC9-4C13E06CF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9BE6-E5BA-403A-83A2-B26EFAB2A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F9D7-BBEB-4057-B370-37CDE438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711A-5D27-4DC0-9A22-0FAC411C5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E5320-37DE-40EA-8EA6-6928B6640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ssachuset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vin Tob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0200" y="3352680"/>
            <a:ext cx="2909880" cy="3019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952880" y="457200"/>
            <a:ext cx="3813120" cy="20811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486400" y="3962520"/>
            <a:ext cx="3046320" cy="2698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0" y="457200"/>
            <a:ext cx="3276720" cy="21654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pital is Bost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sachusetts is the 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80880" y="3581280"/>
            <a:ext cx="4672080" cy="2868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369040" y="1219320"/>
            <a:ext cx="2774880" cy="41907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rd and Fl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ird is the Chickad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lower is the May Flo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2895480"/>
            <a:ext cx="3276720" cy="3043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343400" y="3200400"/>
            <a:ext cx="3733920" cy="27082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 Berry State Bever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ate berry is the Cranbe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ate beverage is the Cranberry Ju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3048120"/>
            <a:ext cx="3581280" cy="28558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952880" y="3581280"/>
            <a:ext cx="2887920" cy="22035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ickn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ickname is  The Bay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8600" y="3048120"/>
            <a:ext cx="3813120" cy="2998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14800" y="3200400"/>
            <a:ext cx="4419720" cy="26258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6T13:35:22Z</dcterms:created>
  <dc:creator>Mother of Divine Grace</dc:creator>
  <dc:description/>
  <dc:language>en-US</dc:language>
  <cp:lastModifiedBy> </cp:lastModifiedBy>
  <dcterms:modified xsi:type="dcterms:W3CDTF">2012-05-20T21:22:45Z</dcterms:modified>
  <cp:revision>3</cp:revision>
  <dc:subject/>
  <dc:title>Massachusetts</dc:title>
</cp:coreProperties>
</file>